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0A29-9EAE-4430-9689-E9BEF9EB8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A267-234E-4F8B-9C24-0C8EBAB76E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519A-D64D-4986-ADF6-474B84638B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10C9-21D0-4F03-BB91-AC38830A6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6492-5C8E-4EDB-8FD0-2DB9D2232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DA05-A696-4BEE-B9F5-B200BBAA8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3325-2491-431E-846B-7C48B481F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5BA3-9505-4051-AD5C-98B0A4158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68F1-3203-41F2-A234-BB7BD1C86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25BC-1182-4C27-9513-4FB2E299E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084B-EB7A-4C3B-AE94-D9339689C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0FED-91EF-4455-89DD-866AD74E3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ED49-E1F8-4EC3-99E4-D66DB8F57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4A34-3CE6-472D-A8A9-4126B3C11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62FF-5B8B-452F-B098-004750762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B540-44E2-4DF6-921C-7E0771F2871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Picture 9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1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87440" y="65008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copyright.gov/circs/circ1.html" TargetMode="External"/><Relationship Id="rId4" Type="http://schemas.openxmlformats.org/officeDocument/2006/relationships/hyperlink" Target="http://www.benedict.com/" TargetMode="External"/><Relationship Id="rId5" Type="http://schemas.openxmlformats.org/officeDocument/2006/relationships/hyperlink" Target="http://www.utsystem.edu/OGC/IntellectualProperty/faculty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hyperlink" Target="http://www.utsystem.edu/ogc/intellectualproperty/copypol2.htm#mm&#x0d;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Haosul Copyright-ului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91404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 ghid educa</a:t>
            </a:r>
            <a:r>
              <a:rPr b="0" lang="ro-RO" sz="40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onal de utilizare a dreptului de auto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zentarea a fost creat</a:t>
            </a:r>
            <a:r>
              <a:rPr b="0" lang="ro-RO" sz="1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entru cursu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41B7-D616-4802-8F16-178E8953517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tribui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 recuno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ş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tii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n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Numi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 surse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af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 semnul de copyright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Numirea sursel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- d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o descriere bibliografi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mple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u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le care sunt disponibil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ncluzand autorul, titlul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pografia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cul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ata ti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ri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66cc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fi</a:t>
            </a:r>
            <a:r>
              <a:rPr b="0" lang="ro-RO" sz="1800" spc="-1" strike="noStrike">
                <a:solidFill>
                  <a:srgbClr val="66ccff"/>
                </a:solidFill>
                <a:latin typeface="Verdana"/>
              </a:rPr>
              <a:t>ş</a:t>
            </a:r>
            <a:r>
              <a:rPr b="0" lang="fr-FR" sz="1800" spc="-1" strike="noStrike">
                <a:solidFill>
                  <a:srgbClr val="66ccff"/>
                </a:solidFill>
                <a:latin typeface="Verdana"/>
              </a:rPr>
              <a:t>ati semnul de copyright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:-sub poze adaug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despr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 copyrightului(anul primei apar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umele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orului dreptului de auto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pl</a:t>
            </a:r>
            <a:r>
              <a:rPr b="0" lang="ro-RO" sz="20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70E9-6D7D-46D7-9EDC-42E79A9A8EA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0720" y="228240"/>
            <a:ext cx="869328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Folosire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ulterioar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dincolo de folosirea legal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exi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osibilitatea ca un proiec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e 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(de exemplu publicat pe internet): ob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 permisiunea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, de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astept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sunt disponibile pe Curriculum Resource C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der-ul Resource, Copyright Resou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ii dreptului de au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riso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 publica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le elevil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 exemplu de scrisoar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 folosi  acest cur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2BE6-E472-4DE8-9015-C67D77FBEF3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fatur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ti ca acestea sunt sfaturi, nu leg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, cu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de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rtezi mai mult de aceste sfaturi,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t mai mult a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a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sa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afara “folosirii legal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2AF4-8248-4E51-973C-A0872024A92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r despre softwar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ca nu ai permisiunea d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rului dreptului de autor, atunc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e ilegal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uri o lic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singur utilizator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o folos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mai multe calculatoare sau un serv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wnloadezi softuri cu drept de autor de p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er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prumu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ii tale softul pe care l-ai procur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lculatorul 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 de ac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Copyright and Fair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408-8386-4390-B686-FE379F8A12E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5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D83B-1C8D-4190-B8FD-14051842067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16DD-7914-4788-9C7C-5F21A99AA98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B7E-C68D-4EE3-BC2C-0F2DAED2E7C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www.utsystem.edu/OGC/IntellectualProperty/mono2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09D8-FBC8-4C99-8C57-E84B5765D42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tilizarea acestei prezent</a:t>
            </a:r>
            <a:r>
              <a:rPr b="1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ceasta prezentare  poate fi utilizat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 scopuri non-profit , educa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onale 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 apar</a:t>
            </a:r>
            <a:r>
              <a:rPr b="0" lang="ro-RO" sz="26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 firmei 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FFD9-39A6-4904-A393-14864119374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 este copyrightul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reptul exclusiv de a produce si reproduce, de a prezenta in public sau de a publica o opera originala artistic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sau litera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ră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proape orice creat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ie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privat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 original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este protejat</a:t>
            </a:r>
            <a:r>
              <a:rPr b="0" lang="ro-RO" sz="30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16B7-404B-49C9-AFA4-581541A1F94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temi care nu sunt proteja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: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emple de itemi care nu sunt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legea copyrightulu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are nu au fost scrise sau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regist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i, metode, descoperiri care se disting dintr-o descriere, expli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 sau ilustr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constituit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intregime din inform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commune( de ex : calendare standard, carte de telefoane 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emi din domeniul public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joritatea materialelor guvernamentale ale US(unii itemi cre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de antreprenori pt guvern pot fi protej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p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07F5-BAA0-4B49-A813-560384ABA52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Clauz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ste o parte a legii copyrightulu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S. Permite oamenilor sa foloseasca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opieze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da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unt folosit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enta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v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ţ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urs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rcet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C46D-B469-4E6F-8A8E-87726E17A32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4 factori 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 car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ajut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la determinarea folosirii legal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375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Scopul 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 caracterul folosirii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inclusiv da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folosirea est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comerci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 scopuri educative nonprof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ate fi folosi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scopuri educ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onale, nu doar intr-un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di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Natura luc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ii protej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folosirea legal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se apli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mai pu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lor creative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compar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e cu cele bazate pe fapte din natu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Marimea par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ii folosit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 raport cu lucrarea protejat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folosirea doar a ceea ce este necesar, nu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i a “miezului”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4.   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fectul folosirii asupra poten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ialei pie</a:t>
            </a:r>
            <a:r>
              <a:rPr b="1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5e647"/>
                </a:solidFill>
                <a:latin typeface="Verdana"/>
              </a:rPr>
              <a:t>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- copierea nu trebuie s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afecteze pia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 lucr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ii protejat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-   culegeri de probleme,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tareste mult </a:t>
            </a:r>
            <a:r>
              <a:rPr b="1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potriva 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9C55-BD53-444A-8B23-D8B60B398C6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Ghidul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air Use Guidelines for Educational Multimedia “ a fost creat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oferi supor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i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folosirii lega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Cu toate acestea : - nu este un document legal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e doar o interpretare a legii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 aplica doar educatorilor care produc multimed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D237-89B3-4793-A149-8988CD92B5E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 studen</a:t>
            </a:r>
            <a:r>
              <a:rPr b="1" lang="ro-RO" sz="2600" spc="-1" strike="noStrike" u="sng">
                <a:solidFill>
                  <a:srgbClr val="ffffff"/>
                </a:solidFill>
                <a:uFillTx/>
                <a:latin typeface="Verdana"/>
              </a:rPr>
              <a:t>ţ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ude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educatorii au ghiduri separ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tuden</a:t>
            </a:r>
            <a:r>
              <a:rPr b="0" lang="ro-RO" sz="1800" spc="-1" strike="noStrike">
                <a:solidFill>
                  <a:srgbClr val="f5e647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ii po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priile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anumit c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zenta  propriile proiecte la cursul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re au fost cre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propriile portofolii ca exemple ale muncii academic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copuri personale ulterioare cum ar fi servicii sau interviuri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a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937F-F68F-4132-890C-11ACFAE7A69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Verdana"/>
              </a:rPr>
              <a:t>Ghid pt educato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Educatorii po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i din luc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 protejate 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d  realizeaz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oiecte educa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onale multimedia care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v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ajutorul pre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i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e proiectele pe termen nedefinit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 urm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arele scop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le prezenta colegilor 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ca exemeple la confer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e re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 portofoli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uz personal cum ar fi promo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ii sau  interviuri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jobu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foloseasc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oiectel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predare pe o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de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la 2 ani dupa prima folosire cu o clas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osirea du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ceas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ioad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e timp necesi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ermisiunea p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entru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iecare por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une protej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corporat</a:t>
            </a:r>
            <a:r>
              <a:rPr b="0" lang="ro-RO" sz="18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ubstituent număr diapozitiv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D38-865B-4122-B477-175C008ACAE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Sfaturi p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entru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 a r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â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e 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î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Verdana"/>
              </a:rPr>
              <a:t>n permisiunea legal</a:t>
            </a:r>
            <a:r>
              <a:rPr b="1" lang="ro-RO" sz="2200" spc="-1" strike="noStrike" u="sng">
                <a:solidFill>
                  <a:srgbClr val="ffffff"/>
                </a:solidFill>
                <a:uFillTx/>
                <a:latin typeface="Verdana"/>
              </a:rPr>
              <a:t>ă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5760" y="1371600"/>
          <a:ext cx="8237520" cy="4543560"/>
        </p:xfrm>
        <a:graphic>
          <a:graphicData uri="http://schemas.openxmlformats.org/drawingml/2006/table">
            <a:tbl>
              <a:tblPr/>
              <a:tblGrid>
                <a:gridCol w="2947680"/>
                <a:gridCol w="528984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 min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1000 cuvi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z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de cuvinte; nu mai multe de 3 poezii de acel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autor; nu mai mult de 5 poezi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tolog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zica,versuri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sau 30 secun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tografii 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ş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Ilustrat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ini de la un autor;Nu mai mult de  10% sau 15 imagini dintr-o singur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ublica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uri de date numer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din 2500  c</a:t>
                      </a:r>
                      <a:r>
                        <a:rPr b="0" lang="ro-RO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puri sau celu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6"/>
          <p:cNvSpPr/>
          <p:nvPr/>
        </p:nvSpPr>
        <p:spPr>
          <a:xfrm>
            <a:off x="152280" y="457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n lucrarea protejat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folosi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c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â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 mai pu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din urm</a:t>
            </a:r>
            <a:r>
              <a:rPr b="0" lang="ro-RO" sz="2400" spc="-1" strike="noStrike">
                <a:solidFill>
                  <a:srgbClr val="ffffff"/>
                </a:solidFill>
                <a:latin typeface="Verdana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arel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EP</cp:lastModifiedBy>
  <dcterms:modified xsi:type="dcterms:W3CDTF">2009-08-25T13:33:55Z</dcterms:modified>
  <cp:revision>311</cp:revision>
  <dc:subject/>
  <dc:title>Copyright Chaos</dc:title>
</cp:coreProperties>
</file>